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7.jpeg" ContentType="image/jpeg"/>
  <Override PartName="/ppt/media/maurice%20chevalier%20-%20la%20madelon%20de%20la%20victoire.wav" ContentType="audio/x-wav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8.jpeg" ContentType="image/jpeg"/>
  <Override PartName="/ppt/media/image25.jpeg" ContentType="image/jpeg"/>
  <Override PartName="/ppt/media/image4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52.jpeg" ContentType="image/jpeg"/>
  <Override PartName="/ppt/media/image2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8A40-40D0-4711-88E4-6C7CE0250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0AAA-EA37-46E6-AC15-5179D89F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D4DB-47F1-4B19-8DB1-B9674E520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82D1-A7F3-4640-B47B-A1274938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540E-AB72-4A7F-9BE6-47BFBD79A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D859-1C5C-4A60-BD90-403DD2ED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7B20-2146-45B8-9319-B120B50F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1687-E371-4F3E-A602-0439A761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0BFC-91BD-4781-8873-E5C2F2CC5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6405-67AF-4957-ADE6-ED4541F4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5C46-F050-434E-B9F3-DDBA94970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1D3F-DF7E-4119-A1BD-6BC4B2347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91B2-75E4-4482-8E5F-84D50E639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maurice%20chevalier%20-%20la%20madelon%20de%20la%20victoir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101600"/>
            <a:ext cx="9144000" cy="5756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Rockwell"/>
              </a:rPr>
              <a:t>Graines de bois de li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583320"/>
            <a:ext cx="2124000" cy="276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KNA Productions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-1080"/>
            <a:ext cx="485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Rockwell"/>
              </a:rPr>
              <a:t>Les conditionner à la haine de l’Allemag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702320" y="0"/>
            <a:ext cx="444168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3763800" cy="58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68760" y="0"/>
            <a:ext cx="457524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524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68760" y="0"/>
            <a:ext cx="4575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68760" y="0"/>
            <a:ext cx="457524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-1440"/>
            <a:ext cx="47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108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Rockwell"/>
              </a:rPr>
              <a:t>Les préparer à prendre la relève de leurs pè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8000" y="836640"/>
            <a:ext cx="4403520" cy="6021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687920" y="0"/>
            <a:ext cx="445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5240" y="0"/>
            <a:ext cx="456876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568760" y="0"/>
            <a:ext cx="457524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0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848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519120"/>
            <a:ext cx="91440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082520"/>
            <a:ext cx="9144000" cy="5775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Rockwell"/>
              </a:rPr>
              <a:t>C’était pendant la première guerre mond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56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755640"/>
            <a:ext cx="9144000" cy="61023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Rockwell"/>
              </a:rPr>
              <a:t>Les garçons sont des graines de chou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469800"/>
            <a:ext cx="9144000" cy="59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449280"/>
            <a:ext cx="9144000" cy="59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Rockwell"/>
              </a:rPr>
              <a:t>Les filles sont des graines de ro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442800"/>
            <a:ext cx="9144000" cy="59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Rockwell"/>
              </a:rPr>
              <a:t>Ces cartes postales incitent les couples à faire des enfants durant les permission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1170000"/>
            <a:ext cx="91440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-10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16000" rIns="216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Rockwell"/>
              </a:rPr>
              <a:t>… </a:t>
            </a:r>
            <a:r>
              <a:rPr b="1" i="1" lang="en-US" sz="3200" spc="-1" strike="noStrike">
                <a:solidFill>
                  <a:srgbClr val="000000"/>
                </a:solidFill>
                <a:latin typeface="Rockwell"/>
              </a:rPr>
              <a:t>pour les envoyer à la guerre dans quelques anné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1079640"/>
            <a:ext cx="914400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86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965160"/>
            <a:ext cx="9144000" cy="58928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-1080"/>
            <a:ext cx="9144000" cy="1068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Rockwell"/>
              </a:rPr>
              <a:t>L’image des enfants est utilisée comme instrument de propaga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901800"/>
            <a:ext cx="9144000" cy="5956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-1080"/>
            <a:ext cx="9144000" cy="10688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Rockwell"/>
              </a:rPr>
              <a:t>La poste militaire achemine 1,5 million de cartes postales par j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1324080"/>
            <a:ext cx="9144000" cy="5533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Rockwell"/>
              </a:rPr>
              <a:t>Près de 5 milliards de cartes postales ont été diffusées en France pendant la grande guer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506520"/>
            <a:ext cx="9144000" cy="58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426960"/>
            <a:ext cx="9144000" cy="60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68760" y="0"/>
            <a:ext cx="457524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524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568760" y="0"/>
            <a:ext cx="4575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Rockwell"/>
              </a:rPr>
              <a:t>L’enfant apparaît comme un futur combattant de la Patr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1123920"/>
            <a:ext cx="91440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08000" y="5300640"/>
            <a:ext cx="3456000" cy="1451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580000" y="1699560"/>
            <a:ext cx="35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fff00"/>
                </a:solidFill>
                <a:latin typeface="Rockwell"/>
              </a:rPr>
              <a:t>FI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72360" y="6453360"/>
            <a:ext cx="23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5KNA Productions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172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Rockwell"/>
              </a:rPr>
              <a:t>Ce sont des graines de poi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441360"/>
            <a:ext cx="914400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Rockwell"/>
              </a:rPr>
              <a:t>L’espoir repose sur ses épau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984240"/>
            <a:ext cx="914400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Rockwell"/>
              </a:rPr>
              <a:t>La France peut se rassurer, la relève est assurée par ces futures recrues empreintes de patriotis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092240"/>
            <a:ext cx="9144000" cy="57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Rockwell"/>
              </a:rPr>
              <a:t>L’avenir de la France repose sur ses enfa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874800"/>
            <a:ext cx="9144000" cy="59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8T09:01:18Z</dcterms:created>
  <dc:creator>Maxime Pin</dc:creator>
  <dc:description/>
  <dc:language>en-US</dc:language>
  <cp:lastModifiedBy>michelep</cp:lastModifiedBy>
  <dcterms:modified xsi:type="dcterms:W3CDTF">2016-02-15T20:33:09Z</dcterms:modified>
  <cp:revision>72</cp:revision>
  <dc:subject/>
  <dc:title>Diapositive 1</dc:title>
</cp:coreProperties>
</file>