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maurice%20chevalier%20-%20la%20madelon%20de%20la%20victoir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8.jpeg" ContentType="image/jpeg"/>
  <Override PartName="/ppt/media/image25.jpeg" ContentType="image/jpeg"/>
  <Override PartName="/ppt/media/image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E7A-39A8-4571-BBB3-0D72C762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53D-CC84-40B7-951B-0430EBC2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64C-BCFD-407A-904B-DBCD564B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E42-34B0-4223-85B4-A5461D3E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E63-93AA-4EF8-A35F-411394C9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621-AD70-41D6-9794-401655AD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EA4-3458-46E3-B623-8FF1243A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2CA-97FC-4C19-AB56-7265E093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861-2F26-4491-8E85-FCB98175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8CE-C014-42DC-8AA8-ED83634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C3B-9E1E-4655-8692-8F674B8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77E-7ADB-4B42-BC4C-00760EC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B73D-D211-433B-BC5E-EEE2E23F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urice%20chevalier%20-%20la%20madelon%20de%20la%20victoir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01600"/>
            <a:ext cx="9144000" cy="575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Rockwell"/>
              </a:rPr>
              <a:t>Graines de bois de l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83320"/>
            <a:ext cx="2124000" cy="276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NA Productions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1080"/>
            <a:ext cx="48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es conditionner à la haine de l’Allemag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02320" y="0"/>
            <a:ext cx="44416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763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-144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Rockwell"/>
              </a:rPr>
              <a:t>Les préparer à prendre la relève de leurs p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4403520" cy="602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7920" y="0"/>
            <a:ext cx="445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082520"/>
            <a:ext cx="9144000" cy="577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C’était pendant la première guerre mond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es garçons sont des graines de cho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4928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es filles sont des graines de r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Ces cartes postales incitent les couples à faire des enfants durant les permiss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… </a:t>
            </a: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pour les envoyer à la guerre dans quelques ann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65160"/>
            <a:ext cx="9144000" cy="5892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’image des enfants est utilisée comme instrument de propag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956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a poste militaire achemine 1,5 million de cartes postales par j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5533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Près de 5 milliards de cartes postales ont été diffusées en France pendant la grande gu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696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Rockwell"/>
              </a:rPr>
              <a:t>L’enfant apparaît comme un futur combattant de la Pat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8000" y="5300640"/>
            <a:ext cx="3456000" cy="1451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80000" y="1699560"/>
            <a:ext cx="35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Rockwel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6453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KNA Productions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17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Ce sont des graines de poi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’espoir repose sur ses épa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8424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Rockwell"/>
              </a:rPr>
              <a:t>La France peut se rassurer, la relève est assurée par ces futures recrues empreintes de patriot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91440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’avenir de la France repose sur ses enf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09:01:18Z</dcterms:created>
  <dc:creator>Maxime Pin</dc:creator>
  <dc:description/>
  <dc:language>en-US</dc:language>
  <cp:lastModifiedBy>michelep</cp:lastModifiedBy>
  <dcterms:modified xsi:type="dcterms:W3CDTF">2016-02-15T20:33:09Z</dcterms:modified>
  <cp:revision>72</cp:revision>
  <dc:subject/>
  <dc:title>Diapositive 1</dc:title>
</cp:coreProperties>
</file>